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ECF5-48EB-4BAE-AFE3-96CEFE085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anybody notice anything about these two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pathway: the product of one reaction is consumed in the next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vs. react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0C1D-C30F-4B8E-8FDE-363004143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EE19-424B-4304-AB61-C2A1B2758A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do th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0DCF-98E7-473B-9CEE-F4D38DE0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AF24-8236-4B57-823D-7A5FEA7A9F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quired to do all this (e.g., acetyl coenzyme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28A3-76F7-419C-BBF0-A0F418E3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1412-901D-47CA-AA26-575556ECA2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after Hands Kre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+ and FAD are electron c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 accepts one electron and pro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D accepts two electrons and prot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529B-16B9-45D8-ADDB-8FD9F2BE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EB2F-4242-41AB-97D7-72FCCC237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H is broken down….+ are released into inter-membrane spa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t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C032-9A49-4D86-A8C0-090AB6D23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0C28-BCD2-4E24-97CC-5D19BCD6F7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ATP…converted from energy in the electrons in NADH and FAD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8F20-A2A5-4A9A-A1D3-6CB04B7A1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3738-89C4-4679-BC28-D49BF3B355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where certain reactions occur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tep makes ATP…It’s just a question of how much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14EA-EF37-4E28-8232-74B3101AC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4DFF-8454-40CF-BDBE-48FDAB8FA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want to regenerate NAD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thout this, glycolysis can’t keep going and the small amount of ATP made in glycolysis can’t be c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macromolecule is glucose?—carbohydrate…break down th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word adenosine remind you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378-BA9B-444B-A340-4E464EBF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7F3-0348-45AE-A588-692C8D94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A40-E57F-48EF-A00D-10A21A2D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0AF-B5F2-4A4F-AC33-A07BA108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23C-DFCE-4F0A-83A6-F18AB06B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5F9-7456-427B-B345-30E2F6D5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E15-1510-4A8E-958E-B5FEFFAA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F3D-67F3-4737-A8ED-F8F67B7E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6A4-031C-44F2-9969-9EB34F39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2CC-2E9E-4548-99F6-10F186B2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C76-1414-418E-9542-6D16899B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9F2-DD07-463B-83C8-48A106CD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9E1-AC0E-4C48-97BA-69A94C7B2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3: Cell Metabo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14964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3344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Photosynthesis and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18288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Energy (Ligh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Energy (ATP) +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1600200"/>
            <a:ext cx="5334120" cy="99072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3886200"/>
            <a:ext cx="4876560" cy="9144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04920" y="3886200"/>
            <a:ext cx="2361960" cy="990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715000" y="1600200"/>
            <a:ext cx="2514600" cy="990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2590920" y="2590920"/>
            <a:ext cx="4343400" cy="129528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 flipV="1">
            <a:off x="1981080" y="2590920"/>
            <a:ext cx="4419720" cy="1295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33520" y="54100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COMPARISON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actants of one reaction are the products of the other reac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soulcare.org/images/photosynthesis_respiration_diagram.gif"/>
          <p:cNvPicPr/>
          <p:nvPr/>
        </p:nvPicPr>
        <p:blipFill>
          <a:blip r:embed="rId1"/>
          <a:stretch/>
        </p:blipFill>
        <p:spPr>
          <a:xfrm>
            <a:off x="1752480" y="304920"/>
            <a:ext cx="5543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from fi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chanic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mechanical pencil, pencil sharpener, car, bik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em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s present in chemical bonds of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gar-each bond (line) holds a lot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477120" y="4599000"/>
            <a:ext cx="18288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batteries convert stored chemical energy (gasoline) to mechanical energy-the car is able to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ell, ATP breaks down to ADP. The energy is used to do things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6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rbon Dioxide + W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lucose +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819520" y="1600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648320" y="35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304920" y="1676520"/>
            <a:ext cx="2666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457200" y="3809880"/>
            <a:ext cx="4419720" cy="99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29000" y="1676520"/>
            <a:ext cx="335268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34120" y="3962520"/>
            <a:ext cx="350496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182880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5146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50292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9343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762120" y="3124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295280" y="53341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038480" y="29718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791320" y="5257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Phas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ght Depend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 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from su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sor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nergy is converted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 or NAD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other energy-storing molec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Phas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dependent (don’t need 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 and NAD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gar (gluco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can be used to mak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, lipids, DNA,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ylak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ere the light reactions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lakoids are arranged in stack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o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ere the light independent reactions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660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tabolism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process that involves using energy to build or break dow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otosynthesis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ular respi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making and breaking energy-rich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bsor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ght (certain colors)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flec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ylakoid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hylls “a” and “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re dark/light green because of different amounts of 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lorophyll a or b were absent, photosynthesis would 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roten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i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b-carot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red/yellow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carrots/sweet potatoes their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 Sea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break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ee color of other pi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fall_leaf"/>
          <p:cNvPicPr/>
          <p:nvPr/>
        </p:nvPicPr>
        <p:blipFill>
          <a:blip r:embed="rId1"/>
          <a:stretch/>
        </p:blipFill>
        <p:spPr>
          <a:xfrm>
            <a:off x="4419720" y="2438280"/>
            <a:ext cx="44100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n ecosystem, photosynthesis and cellular respiration (the other process) form a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276720" y="2286000"/>
            <a:ext cx="2819160" cy="1028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</a:t>
            </a:r>
            <a:r>
              <a:rPr b="0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809880" y="4648320"/>
            <a:ext cx="2133720" cy="1143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ar +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6400800" y="3505320"/>
            <a:ext cx="1828800" cy="10285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ar Respiration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 flipV="1" rot="10800000">
            <a:off x="6324480" y="2743200"/>
            <a:ext cx="1028880" cy="571680"/>
          </a:xfrm>
          <a:custGeom>
            <a:avLst/>
            <a:gdLst>
              <a:gd name="textAreaLeft" fmla="*/ 591840 w 1028880"/>
              <a:gd name="textAreaRight" fmla="*/ 868320 w 1028880"/>
              <a:gd name="textAreaTop" fmla="*/ 77040 h 571680"/>
              <a:gd name="textAreaBottom" fmla="*/ 2448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V="1" rot="16200000">
            <a:off x="6552720" y="4647600"/>
            <a:ext cx="685800" cy="1143000"/>
          </a:xfrm>
          <a:custGeom>
            <a:avLst/>
            <a:gdLst>
              <a:gd name="textAreaLeft" fmla="*/ 394560 w 685800"/>
              <a:gd name="textAreaRight" fmla="*/ 578880 w 68580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1295280" y="3581280"/>
            <a:ext cx="1905120" cy="9144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loropla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 flipH="1" rot="16200000">
            <a:off x="2205000" y="2519640"/>
            <a:ext cx="828720" cy="971280"/>
          </a:xfrm>
          <a:custGeom>
            <a:avLst/>
            <a:gdLst>
              <a:gd name="textAreaLeft" fmla="*/ 477000 w 828720"/>
              <a:gd name="textAreaRight" fmla="*/ 699840 w 828720"/>
              <a:gd name="textAreaTop" fmla="*/ 130680 h 971280"/>
              <a:gd name="textAreaBottom" fmla="*/ 415800 h 971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1"/>
          <p:cNvSpPr/>
          <p:nvPr/>
        </p:nvSpPr>
        <p:spPr>
          <a:xfrm flipV="1">
            <a:off x="2362320" y="4800600"/>
            <a:ext cx="1143000" cy="571680"/>
          </a:xfrm>
          <a:custGeom>
            <a:avLst/>
            <a:gdLst>
              <a:gd name="textAreaLeft" fmla="*/ 657720 w 1143000"/>
              <a:gd name="textAreaRight" fmla="*/ 964800 w 1143000"/>
              <a:gd name="textAreaTop" fmla="*/ 77040 h 571680"/>
              <a:gd name="textAreaBottom" fmla="*/ 2448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ular Respir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038480" cy="303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4495680" y="3484440"/>
            <a:ext cx="381024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09480" y="1981080"/>
            <a:ext cx="82296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lucose + Oxyge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nergy + Carbon Dioxide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ATP + 6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276720" y="4572000"/>
            <a:ext cx="350496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733920" y="1905120"/>
            <a:ext cx="487656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182880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62120" y="3124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029200" y="3200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6483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6765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33520" y="1905120"/>
            <a:ext cx="281916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533520" y="4572000"/>
            <a:ext cx="236196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762120" y="5791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5812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 in Eukaryo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Membrane in Pro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ATP fro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energpath1"/>
          <p:cNvPicPr/>
          <p:nvPr/>
        </p:nvPicPr>
        <p:blipFill>
          <a:blip r:embed="rId1"/>
          <a:stretch/>
        </p:blipFill>
        <p:spPr>
          <a:xfrm>
            <a:off x="3733920" y="2209680"/>
            <a:ext cx="54100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52280" y="2743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: ATP (Adenosine Tri-Phospha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use ATP as our energy storage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high-energy bond betwee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in an ATP molec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ok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is bond releases a lot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8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48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taining Nutrients: Two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lf feeders)= make their own food from “inorganic” substances and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Plants, algae, certai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terotroph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fferent feeders)= obtain their nutrients by feeding on othe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nimals and Fun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95520" cy="20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8195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 Mitochond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Mitochondria Structural Features"/>
          <p:cNvPicPr/>
          <p:nvPr/>
        </p:nvPicPr>
        <p:blipFill>
          <a:blip r:embed="rId1"/>
          <a:stretch/>
        </p:blipFill>
        <p:spPr>
          <a:xfrm>
            <a:off x="2514600" y="114300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57200" y="48769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ycolysis occurs in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ytoplas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reb’s Cycle occurs 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on Transport Chain occurs 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ner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ds in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tochondrial membrane are cal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ist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ae increase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rface area (amoun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membrane so tha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ular respi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cc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itochondrion2"/>
          <p:cNvPicPr/>
          <p:nvPr/>
        </p:nvPicPr>
        <p:blipFill>
          <a:blip r:embed="rId1"/>
          <a:stretch/>
        </p:blipFill>
        <p:spPr>
          <a:xfrm>
            <a:off x="3200400" y="3886200"/>
            <a:ext cx="53341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erobic Respi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oxy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fficient (produces a lot of AT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aerobic Respi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the absence of oxy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fficient (produces very little AT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Glyco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urp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broken down into smalle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unt of ATP Produ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mount of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glycolysis"/>
          <p:cNvPicPr/>
          <p:nvPr/>
        </p:nvPicPr>
        <p:blipFill>
          <a:blip r:embed="rId1"/>
          <a:stretch/>
        </p:blipFill>
        <p:spPr>
          <a:xfrm>
            <a:off x="4876920" y="1523880"/>
            <a:ext cx="380988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Kreb’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600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457200" y="2286000"/>
            <a:ext cx="4724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urp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further broken down into C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unt of ATP Produ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mount of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of 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Electron Transport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560760" cy="27860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45720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urp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nergy electrons from the Kreb’s cycle convert ADP into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+ moves through the membrane and into the mitochond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2 is converted into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unt of ATP Produ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mount of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Membrane of the Mitochondria (Crista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Respiration: Energy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 AT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 AT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reb’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4 AT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66680" y="38098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38 Total ATP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739880"/>
            <a:ext cx="7086600" cy="5118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erobic Respira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re Process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Name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ctic Acid Ferment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coholic (Ethanol) Fer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200400" y="3749760"/>
            <a:ext cx="51436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ste Product: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s in Everyday Lif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cells 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, yogurt, pick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017720" y="3733920"/>
            <a:ext cx="3078000" cy="2779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5542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s in: autotro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Convert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ght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emical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luc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: carbohydrate mono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905120" y="3276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6132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716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ic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ste Produc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ens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Yeast Cells (fun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s in Everyday Life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st causing bread to rise, beer mak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bon dioxide + water + light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glucose + oxy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135520" y="1676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c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21360" y="17524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3429000" y="4419720"/>
            <a:ext cx="1438200" cy="1360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0" y="2362320"/>
            <a:ext cx="5181480" cy="3809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5638680" y="2362320"/>
            <a:ext cx="3505320" cy="3809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Respiration (Autotrophs AND Heterotroph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6761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ppens in: autotrophs AND heterotro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: converting chemical energy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into USABLE energy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adenosine triphosph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(Adenine Triphosph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emical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iving org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oken dow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lease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ADP + P + energ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ings across a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P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32767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Ade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Ribose (a s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Phosphat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l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y whe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osphate group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r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ttp://www.google.com/url?source=imglanding&amp;ct=img&amp;q=http://www.uic.edu/classes/bios/bios100/summer2003/atp.jpg&amp;sa=X&amp;ei=tfp_UKHAG-LC0QHn7oDQCw&amp;ved=0CA0Q8wc&amp;usg=AFQjCNGiWUdO5Dd-WSfsFBQdgC8rLu1WWg"/>
          <p:cNvPicPr/>
          <p:nvPr/>
        </p:nvPicPr>
        <p:blipFill>
          <a:blip r:embed="rId1"/>
          <a:stretch/>
        </p:blipFill>
        <p:spPr>
          <a:xfrm>
            <a:off x="3809880" y="2133720"/>
            <a:ext cx="4762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524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Energy + Carbon Dioxide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ATP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992520" y="16002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c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868720" y="16002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2362320"/>
            <a:ext cx="3276720" cy="3809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09880" y="2362320"/>
            <a:ext cx="5334120" cy="3809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3:17:01Z</dcterms:created>
  <dc:creator>L'Anse Creuse Public Schools</dc:creator>
  <dc:description/>
  <dc:language>en-US</dc:language>
  <cp:lastModifiedBy>OttoliKE</cp:lastModifiedBy>
  <dcterms:modified xsi:type="dcterms:W3CDTF">2012-10-22T14:02:52Z</dcterms:modified>
  <cp:revision>42</cp:revision>
  <dc:subject/>
  <dc:title>Photosynthesis</dc:title>
</cp:coreProperties>
</file>